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16BFF-C1A5-4482-9F83-70753289E0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FE2EC-475E-42AB-989C-CFC91C192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329BF-9201-4B96-8016-26ABC24658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0814F-231B-4BB2-8496-A64A1DC967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EAA3A-D898-4E5F-B165-DB3D05C8F2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06B2A-DA2A-4E88-8B70-E839E7E39C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FAAD9-F041-406C-9D03-90ADDA9C8F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2E324-8C48-4683-B459-9ED089EAF8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D00AC-200E-4394-B582-CD3C39231F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DB6A1-DB79-4392-B1EC-AB5B425472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C2508-FC68-4AAB-81B0-8139CD954D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61FFC-E3FB-4A25-9058-72B5BD2F5D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702E-CA6F-44AA-8F82-87110548A71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030320" y="637056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9 Intel Corporation. All rights reserved. Intel, the Intel logo, Intel Education Initiative, and the Intel Teach Program are trademarks of Intel Corporation in the U.S.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480000" y="307800"/>
            <a:ext cx="2184480" cy="1092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493884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70680"/>
            <a:ext cx="482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484200" y="65484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Copyright © 2009 Intel Corporation. All rights reserved. Intel, the Intel logo, Intel Education Initiative, and the Intel Teach Program are trademarks of Intel Corporation in the U.S.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61880" y="2152800"/>
            <a:ext cx="8301240" cy="2552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c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showingevidence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showingevidence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493884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Intel</a:t>
            </a:r>
            <a:r>
              <a:rPr b="0" lang="en-US" sz="4100" spc="-1" strike="noStrike" baseline="30000">
                <a:solidFill>
                  <a:srgbClr val="0860a8"/>
                </a:solidFill>
                <a:latin typeface="Verdana"/>
              </a:rPr>
              <a:t>®</a:t>
            </a: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 Teach Program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5599080"/>
            <a:ext cx="8763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c00"/>
                </a:solidFill>
                <a:latin typeface="Verdana"/>
              </a:rPr>
              <a:t>Thinking with Technology Course</a:t>
            </a:r>
            <a:endParaRPr b="1" lang="en-US" sz="1800" spc="-1" strike="noStrike">
              <a:solidFill>
                <a:srgbClr val="ff5c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c00"/>
                </a:solidFill>
                <a:latin typeface="Verdana"/>
              </a:rPr>
              <a:t>Version 2 </a:t>
            </a:r>
            <a:endParaRPr b="1" lang="en-US" sz="1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0: Considering the Showing Evidence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5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visiting Your Unit Pla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760" y="1676520"/>
            <a:ext cx="8237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ep 2: Revisiting the Unit Plan –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0.12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se your Unit Plan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se the Showing Evidence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ction and foundation sections, if needed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 the Student Assessment Plan section, add your ideas for how you would assess the learning throughout the uni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se the Assessment Timeline, as need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se the Procedur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se the Unit Summar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AEC93-1A39-40F9-89C3-A44DF23472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0: Considering the Showing Evidence Tool for Your Unit</a:t>
            </a:r>
            <a:br>
              <a:rPr sz="12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6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haring Your Results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10.13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9280" y="15235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hare your thoughts about your experience with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 Tool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d you try out an idea for your main unit or for a different project idea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nsidering your test results, do you think you will keep this tool in your unit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ow do you see the use of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 Too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itting in with the objectives and standards you are trying to target—and your overall plan for your unit?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ow do you see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 Too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enhancing your students’ higher-order thinking skills as well as collaboration and communication in your classroom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c00"/>
                </a:solidFill>
                <a:latin typeface="Verdana"/>
              </a:rPr>
              <a:t>[If using a wiki, enter the URL and directions here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8443D-8906-49F5-9CD5-2AAF6DFFBD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0: Considering the Showing Evidence Tool for Your Unit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12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Extension Activity 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nalising Your Showing Evidence Project</a:t>
            </a: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-</a:t>
            </a: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0.14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If you anticipate that a </a:t>
            </a:r>
            <a:r>
              <a:rPr b="0" i="1" lang="en-AU" sz="1800" spc="-1" strike="noStrike">
                <a:solidFill>
                  <a:srgbClr val="0860a8"/>
                </a:solidFill>
                <a:latin typeface="Verdana"/>
              </a:rPr>
              <a:t>Showing Evidence</a:t>
            </a: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 project will be imple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for your unit because it is a good fit for the unit’s objectives, comple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any unfinished elements of your </a:t>
            </a:r>
            <a:r>
              <a:rPr b="0" i="1" lang="en-AU" sz="1800" spc="-1" strike="noStrike">
                <a:solidFill>
                  <a:srgbClr val="0860a8"/>
                </a:solidFill>
                <a:latin typeface="Verdana"/>
              </a:rPr>
              <a:t>Showing Evidence</a:t>
            </a: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 project.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Include appropriate references, comments and analysis in your stud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sample that you would expect your students to include in thei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860a8"/>
                </a:solidFill>
                <a:latin typeface="Verdana"/>
              </a:rPr>
              <a:t>Showing Evidence</a:t>
            </a: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 projects.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Make any necessary edits to the project itself, and save your changes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6D51A-10A7-46C1-9861-1EACBC9817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0: Considering the Showing Evidence Tool for Your Unit</a:t>
            </a:r>
            <a:br>
              <a:rPr sz="1200"/>
            </a:br>
            <a:br>
              <a:rPr sz="14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odule 10</a:t>
            </a:r>
            <a:br>
              <a:rPr sz="2600"/>
            </a:br>
            <a:br>
              <a:rPr sz="9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ummary</a:t>
            </a: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10.16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2000160"/>
          <a:ext cx="8237520" cy="3714840"/>
        </p:xfrm>
        <a:graphic>
          <a:graphicData uri="http://schemas.openxmlformats.org/drawingml/2006/table">
            <a:tbl>
              <a:tblPr/>
              <a:tblGrid>
                <a:gridCol w="8237520"/>
              </a:tblGrid>
              <a:tr h="42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Module 10 Key Poi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329292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173160" indent="-171720">
                        <a:spcBef>
                          <a:spcPts val="799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he </a:t>
                      </a:r>
                      <a:r>
                        <a:rPr b="0" i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howing Evidence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case should require students to analyze any of the following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roversial iss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ebatable topi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ral or ethical dilemm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ocial iss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hallenge to an existing opin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173160" indent="-171720">
                        <a:spcBef>
                          <a:spcPts val="799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he case should contain supporting and opposing evidence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of sufficient quantity and quality to adequately answer the prompt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6323E-57BE-42C5-9C27-702F1AFAF3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Next Module</a:t>
            </a:r>
            <a:br>
              <a:rPr sz="2400"/>
            </a:br>
            <a:br>
              <a:rPr sz="14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Module 11</a:t>
            </a:r>
            <a:r>
              <a:rPr b="1" lang="en-US" sz="31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3100"/>
            </a:br>
            <a:endParaRPr b="1" lang="en-US" sz="3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619280"/>
            <a:ext cx="823752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mpleting Your Uni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plore 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ssessing Projec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reate an assessment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lete your uni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owcase your Unit Pla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aluate the cour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4D38E-D0E3-46C8-B4D7-4B31EEF3A5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65480" y="2084400"/>
            <a:ext cx="4500360" cy="224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50B1C-1A9B-4AFF-951A-0114766123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ere We Were</a:t>
            </a:r>
            <a:br>
              <a:rPr sz="2400"/>
            </a:b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990720"/>
          <a:ext cx="8237520" cy="4914720"/>
        </p:xfrm>
        <a:graphic>
          <a:graphicData uri="http://schemas.openxmlformats.org/drawingml/2006/table">
            <a:tbl>
              <a:tblPr/>
              <a:tblGrid>
                <a:gridCol w="1447920"/>
                <a:gridCol w="6789600"/>
              </a:tblGrid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1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argeting Thinking in the Classro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2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esigning Projec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3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ing Curriculum Framing Questions to Support Thinking Skil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4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44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lanning Student-Centered Assess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5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Visual Ranking Tool to Target Thinking Skil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6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Visual Ranking Tool for Your Un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7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Seeing Reason Tool to Target Thinking Skil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8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Seeing Reason Tool for Your Un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9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9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228600" indent="-22716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Showing Evidence Tool to Target Thinking Skil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228600" indent="-227160">
                        <a:spcBef>
                          <a:spcPts val="700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nderstand how the </a:t>
                      </a:r>
                      <a:r>
                        <a:rPr b="0" i="1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howing Evidence Tool</a:t>
                      </a: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supports the argumentation proces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228600" indent="-227160">
                        <a:spcBef>
                          <a:spcPts val="700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view and rate evide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228600" indent="-227160">
                        <a:spcBef>
                          <a:spcPts val="700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iscuss best uses for the </a:t>
                      </a:r>
                      <a:r>
                        <a:rPr b="0" i="1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howing Evidence To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228600" indent="-227160">
                        <a:spcBef>
                          <a:spcPts val="700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et up a </a:t>
                      </a:r>
                      <a:r>
                        <a:rPr b="0" i="1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howing Evidence</a:t>
                      </a: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projec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8AE59-04C0-44B0-8F3B-386F7D8555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ere We Are</a:t>
            </a:r>
            <a:br>
              <a:rPr sz="2400"/>
            </a:b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Module 10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onsidering the Showing Evidence Tool for Your Uni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eate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effective questioning techniqu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se cases and Unit Pla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experien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ere We Are Go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11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Completing Your Uni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D7799-C6B9-4D55-A43E-ED98BBB6E5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Module 10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nsidering the Showing Evidence Tool for 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Your Unit</a:t>
            </a:r>
            <a:br>
              <a:rPr sz="2400"/>
            </a:b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91120" y="1752480"/>
            <a:ext cx="4572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Objecti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eate a practic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and practice effective questioning techniqu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vide and receive feedback on project idea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se your cas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se your Unit Pla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hare your experience using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1324080"/>
            <a:ext cx="4195800" cy="453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21F60-AD71-4EDB-AFB3-025DCBD4D4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0: Considering the Showing Evidence Tool for Your Unit</a:t>
            </a:r>
            <a:br>
              <a:rPr sz="12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1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reating a Practice Case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10.01–10.04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udent Log-In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showingeviden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lick the project nam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eate a new clai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eate eviden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te the eviden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ttach evidence to clai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te the suppor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ew evidence to rate the clai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ke a conclus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60CC0-3A3B-45E0-891B-E2B2401650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0: Considering the Showing Evidence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viewing Student Work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10.05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s a teac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og in to the Teacher Workspace: </a:t>
            </a: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showingevidenc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the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ke a com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1AC12-F814-4981-87C9-7A21848994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0: Considering the Showing Evidence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3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haring Your Practice Case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Reviewing the Practice Case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10.06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hare your unit’s topic, learning objectives, and overall concept with your reviewing tea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g in to each team’s Student Workspace: www.intel.com/education/au/showingevidenc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ew team’s work and make comm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the projec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Reflecting on Your Case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10.07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the Showing Evidence Project Reflection Checklist and the Project Rubric on page 2.18 to review on each other’s ca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81123-3812-4B49-AE88-7D9DAE9911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0: Considering the Showing Evidence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4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vising Your Project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10.08</a:t>
            </a:r>
            <a:br>
              <a:rPr sz="1200"/>
            </a:b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ep 1: Editing Your Projec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ke changes to any of the project detail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ep 2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Revising Your C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new ideas from your colleagues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the Internet to research evidence to add to your initial c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87FDD-0F43-4A85-B657-005108A0B2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0: Considering the Showing Evidence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5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visiting Your Unit Pla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37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ep 1: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Understanding Best Classroom Practices 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0.09–10.11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sma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ry out your idea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stablish project expecta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t up teams to succe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ign teams and review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nsider creating an initial set of sources for eviden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nsider a practice c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multiple methods of assess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B8D51-34C6-490D-97C9-CDDC8DC7A5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stephanie.georges</cp:lastModifiedBy>
  <dcterms:modified xsi:type="dcterms:W3CDTF">2009-01-21T03:18:27Z</dcterms:modified>
  <cp:revision>162</cp:revision>
  <dc:subject/>
  <dc:title>Presentation Title Goes Here</dc:title>
</cp:coreProperties>
</file>